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5.gif" ContentType="image/gif"/>
  <Override PartName="/ppt/media/image5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4.jpeg" ContentType="image/jpeg"/>
  <Override PartName="/ppt/media/image12.jpeg" ContentType="image/jpeg"/>
  <Override PartName="/ppt/media/image24.gif" ContentType="image/gif"/>
  <Override PartName="/ppt/media/image21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1.png" ContentType="image/pn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011-396B-4983-A813-D3B8639D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A9C-A39A-4EF2-9224-D9AB444D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014A2-D910-4DCE-8759-2530DD6E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94803-0861-4C0D-B858-BB257375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31A54-4F41-4DA2-A100-947859A3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FEB1C-CE3E-4289-8E18-96D95E13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6CD22-364F-46DB-9350-0D293579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4221E-FE5E-4A9C-A267-D081E10E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21551-93EE-40CE-BBAB-CEF2DC26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F6510-DA70-4397-93DC-090761CD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DAE3F-A8A1-4677-A3E6-1E2B7D86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AA539-D926-487A-83CD-D1FA98CF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EF7-8B21-408F-9D11-77563917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ED69B-295E-4AE6-A6E0-706CCE39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41B1C-25E1-4475-B131-F34F6DBA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E05B1-CBF8-4A06-AA6E-CD3A08D2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44972-5E1A-45CF-B5B8-6CCC145E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B640A-7769-4C4D-9F79-5C9538A0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88DC7-F8DF-41D9-BE32-E47CEFB7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5779B-5A18-43B4-9483-C8D08412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78143-977F-4AA5-BDF1-4998A562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2A1D9-E844-47C4-A426-62BE1E04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6043A-86AF-462B-9A4A-2108F07C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490-31B7-4243-B44A-96A9CCFB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F3687-9996-45EE-9F61-91D282A4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38BE8-ED60-4FC2-A465-1E7070AB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4F190-F99E-4053-B5E6-2C904F83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8F980-EC2F-44CC-B513-976FBFAC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A9AC9-FC16-4C85-8A4D-5183A12A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11CA9-8AF7-4F61-93EA-91B7094A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B9497-A56C-49D6-855E-3C9C8CB0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D0321-826B-453B-8AEA-0E2006F9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54984-5D67-42AB-AB7E-3E73E75D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A454F-7C3F-440E-B9A9-9F080E92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ED79-9858-41C7-B131-22BF92C5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36ABF-57EC-460D-B9F7-3084F557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C1277-FF0C-4395-8167-55A8143F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3DEF4-6D5C-471B-B8CE-2AA25E89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CA9E0-C95C-43EB-A412-C14670FE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E216B-B15B-42F9-8D79-CDFA5AB5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83E23-DD7E-4E83-AB51-6E467E52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B7A19-0A8C-4A25-9888-E7B0AA29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306BC-59EA-4EDB-B899-675C93AA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BBE8B-DD1A-40DA-BDE4-D1FA3661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7749F-BEE9-4A35-B105-43A4B3EC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4E32-EB56-491A-B436-4EC66101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A5448-8CE7-4529-9D3D-3C3675E2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3189F-6F6C-4898-A2A3-DEADB318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8253A-AF4D-4B22-8458-C138D1E2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3121A-5F5A-4282-93C0-9490AD39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6BAFA-7607-4795-BE56-D308AFE4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DFC69-2E3E-4DE7-9AA9-F5523763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D3D74-32F3-424C-994B-FADF4033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F5975-9A48-4E9B-A0F1-9A0B9C68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63C93-C576-4723-8CA5-9AEBB05F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C7F9D-9079-41FC-B1F8-17EB6BA2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F394-6B3C-45F6-8BF4-522C82F7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8361A-11BF-4974-8836-C9E08E82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6644F-E87E-4DFE-BC5F-93F44F42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1FDBA-6048-4FD2-B241-01A03DE1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99848-A2BB-4F52-AC1B-FB740B42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1514F-F43B-41A5-A29B-240B3D85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6069D-831D-4B3A-AEA2-47166E07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F27B8-38DD-4F5A-B48B-A8465CE4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2A66-D3B3-44F7-99C1-926AA9EF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CE95-67D6-4048-B515-31D39AB4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C49F-7C89-4489-B905-9A245830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D795-A9A1-4974-BFAF-B9182CAE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E9B-56A3-4FAE-86B7-CEDDB347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A8EA-9713-4AD1-A633-6F09A9BF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2871-30D6-4871-A7F0-832E98BA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1C81-8304-45CF-8F64-EF23E5BE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14C3-EBD6-43D4-A83C-7ADD5C1E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756C-CFCB-43CE-BE0C-459A64FF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6B705-6F78-4029-994E-B0F467B6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7BF58-E8C2-4E03-9B7F-4AE2CE66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216A0-4020-4D21-8236-510A61BC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7B595-ED3E-4C55-9EAE-950D82BE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5C1A5-EB29-4BCA-9D44-953796F3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E59-EBAF-40F5-A838-33A912A2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03D3-569A-4E9F-9CDF-C588B2F3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A7E5A-2437-4608-8A65-C5E2F267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8C54-C978-46E4-B33E-D9CCD2E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A9E6F-D437-4CF1-825C-F88C68DD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7226-33FC-47CC-A25C-5E6687F8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B8A4-4C6D-4B38-8B41-A993EDB7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D40A-2542-4CA2-A55B-E0D64FA9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A86BC-497F-4F8E-9AE3-A3A1DD0B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11442-FCA0-4D7D-9762-CD6E6AD3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D1E92-75B3-405F-A810-8C18EC98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D2C-55CF-44A3-B7CB-CB327DFB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8739B-5F17-41CB-B2D1-9C8DA957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0DAF4-3A21-4EC4-BB5D-71E6A42A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CF676-542A-4F1F-A5CF-93B479AC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FFAFB-8563-47AF-9D7A-810843EA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1B58A-A18C-4305-BE38-B1AF0EA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3F88B-BF37-47C2-A478-C8955A43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1F12F-604E-42C3-8A8F-97512FD3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3231A-F90F-412F-B4FB-F8CA9967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E541F-CEF9-4303-8725-3199EC5E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70B2C-6C22-42AC-9527-6519B99D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DBA-FD29-4C36-967B-A0399FD0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D5552-85C2-47A0-B1E3-3C1F3C8B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B754D-5C9A-42B8-BB7A-215C1EDE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1E438-3D7C-445A-BCD2-0BA63A0A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19435-8CC7-4F77-9BC9-12A19979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3DFF4-EFB1-4335-8353-1E344CD6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48662-23DC-47C5-A223-DD99B376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CC5CD-AB5A-49A5-9B67-42E48252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29D15-513B-4546-AC55-37A2641A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CA050-7927-4B08-8041-95518FF2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388A2-AE56-4E7E-B0EE-50C8B779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1A9-5D1D-4582-8136-553DA1A2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AAC95-DC27-40B2-A72E-EA4195C5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9BFE7-A0F4-4DF1-9C44-70234F3B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7133F-F58A-4AD4-882C-307CC4E6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3F302-FA51-4FFB-8CE9-20C1F733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BDE46-948F-4CE9-892F-5D386646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769DF-28BD-44BA-A9CF-C14F5E72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32ACA-0DD5-493C-B406-EC68755C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5730E-BC44-4FA4-A0A1-1476A88B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EAE06-C95F-40E0-B54A-DB4AC027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B3C19-431C-4FD0-A649-D3C8DC4B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1E1-4314-4824-A32E-BF652907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76049-7C5C-4C3B-9B0F-748EB7EA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C90D9-D52C-439D-8A15-08B48F2C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56065-134D-4E4D-9C34-849293FF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DD279-CDF7-4F35-9FDE-4343AFCC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49677-FA02-4D93-B768-D37B0161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6D1F4-413E-46A9-8439-2D7AAEA2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C73ED-6AD2-4324-BF28-65440C56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CAE2C-AB11-40EF-BDAF-D068EA84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041A9-852E-4BBC-94D8-502DD102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02519-FF88-4074-B3FD-A169AA54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997-6616-48D3-ACD6-87ED1A5E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6042B-1D94-4E94-9F6B-F85BB425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D852F-4C03-4BD8-86E5-B9ED8840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1C8E0-87EF-4BC5-9C30-44541557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C7C44-9BEF-4389-A64F-87CA05E8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4EC41-7B56-480B-99B7-C07E924D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164CE-64CA-4742-8048-00DF3BA4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86F58-4585-4E5C-85AF-F97D2DD7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5C635-2754-4A4A-916D-3B0DFB54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846EB-66E6-4B3D-A26A-E6C0262F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4BAC8-4C0C-492A-B234-AE89161C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267-90C5-4CE0-86BA-4F55CDDF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E1A6C-D2BD-49BE-B93C-59D12258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9F427-B65F-4AFC-9C42-5140EE06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65CE5-A1D6-411E-920F-203003F7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1319F-4A9A-444B-9717-B8863FF3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AFB6E-42E3-49C8-82DB-26637A96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C771F-6458-4283-9090-4279F55E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6050E-D41E-4846-9BBF-F0C05BD5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16023-53D6-4C44-BD9A-4225A4E0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7C2A8-7397-4BC7-AC1D-C76E23E0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0E0FF-AC03-4BF2-968F-8980B261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144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6144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6144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6144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6144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6144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6144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66CF-515C-4BDD-A814-DD4EDDBEA9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0B16-C278-4539-9C72-60E351D3A6B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84B2-9C16-4FF7-96A7-F221634A1A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421D-4FB3-4314-B011-68F30AAE83D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F016-ABE1-4CAC-871D-794A22D53E1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6246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6246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6246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6246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6246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6247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6247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DA88-7439-45C4-9A34-236BE9D6662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7937-D349-4059-98A3-ABFE60FB3E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0912-0D35-40CA-B7A1-8077E5DFDB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6EC7-65A7-428A-A893-A4DBCC03B03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1CDE-3AEA-4ACC-8D61-4F45FE3A458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BC80-54C1-4B08-A571-70B85438455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1098-5939-47FE-B033-73F3C09CF7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B5C6-4C7C-4CA5-A375-07454E8C28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jiujiang.gov.cn/jjlyw/lushan/lvyou/index.htm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oduhom.com/wslf/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文本框 6146"/>
          <p:cNvSpPr/>
          <p:nvPr/>
        </p:nvSpPr>
        <p:spPr>
          <a:xfrm>
            <a:off x="2133720" y="1676520"/>
            <a:ext cx="632448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767ff"/>
                </a:solidFill>
                <a:latin typeface="Arial"/>
                <a:ea typeface="楷体_GB2312"/>
              </a:rPr>
              <a:t>题 西 林 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宋代 苏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6147"/>
          <p:cNvSpPr/>
          <p:nvPr/>
        </p:nvSpPr>
        <p:spPr>
          <a:xfrm>
            <a:off x="1143000" y="5029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图片 6148" descr="马飞"/>
          <p:cNvPicPr/>
          <p:nvPr/>
        </p:nvPicPr>
        <p:blipFill>
          <a:blip r:embed="rId1"/>
          <a:stretch/>
        </p:blipFill>
        <p:spPr>
          <a:xfrm>
            <a:off x="533520" y="1600200"/>
            <a:ext cx="228600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  <a:ea typeface="新宋体"/>
              </a:rPr>
              <a:t>远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内容占位符 17409" descr="chunti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4114800" cy="4629240"/>
          </a:xfrm>
          <a:prstGeom prst="rect">
            <a:avLst/>
          </a:prstGeom>
          <a:ln w="0">
            <a:noFill/>
          </a:ln>
        </p:spPr>
      </p:pic>
      <p:pic>
        <p:nvPicPr>
          <p:cNvPr id="593" name="文本占位符 17414" descr="hanpokou1"/>
          <p:cNvPicPr/>
          <p:nvPr/>
        </p:nvPicPr>
        <p:blipFill>
          <a:blip r:embed="rId3"/>
          <a:stretch/>
        </p:blipFill>
        <p:spPr>
          <a:xfrm>
            <a:off x="4800600" y="1600200"/>
            <a:ext cx="396252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600" spc="-1" strike="noStrike">
                <a:solidFill>
                  <a:srgbClr val="ff0066"/>
                </a:solidFill>
                <a:latin typeface="Arial"/>
                <a:ea typeface="新宋体"/>
              </a:rPr>
              <a:t>近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文本占位符 45062" descr="show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596" name="文本占位符 45063" descr="shuangjianfeng"/>
          <p:cNvPicPr/>
          <p:nvPr/>
        </p:nvPicPr>
        <p:blipFill>
          <a:blip r:embed="rId3"/>
          <a:stretch/>
        </p:blipFill>
        <p:spPr>
          <a:xfrm>
            <a:off x="4952880" y="1600200"/>
            <a:ext cx="3810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8000"/>
                </a:solidFill>
                <a:latin typeface="Arial"/>
                <a:ea typeface="仿宋_GB2312"/>
              </a:rPr>
              <a:t>高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文本占位符 25606" descr="独树一帜"/>
          <p:cNvPicPr/>
          <p:nvPr/>
        </p:nvPicPr>
        <p:blipFill>
          <a:blip r:embed="rId1"/>
          <a:stretch/>
        </p:blipFill>
        <p:spPr>
          <a:xfrm>
            <a:off x="457200" y="1600200"/>
            <a:ext cx="3699000" cy="4572000"/>
          </a:xfrm>
          <a:prstGeom prst="rect">
            <a:avLst/>
          </a:prstGeom>
          <a:ln w="0">
            <a:noFill/>
          </a:ln>
        </p:spPr>
      </p:pic>
      <p:pic>
        <p:nvPicPr>
          <p:cNvPr id="599" name="文本占位符 25607" descr="wulaofeng2"/>
          <p:cNvPicPr/>
          <p:nvPr/>
        </p:nvPicPr>
        <p:blipFill>
          <a:blip r:embed="rId2"/>
          <a:stretch/>
        </p:blipFill>
        <p:spPr>
          <a:xfrm>
            <a:off x="4724280" y="1600200"/>
            <a:ext cx="3733920" cy="45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图片 23557" descr="瀑布1"/>
          <p:cNvPicPr/>
          <p:nvPr/>
        </p:nvPicPr>
        <p:blipFill>
          <a:blip r:embed="rId1"/>
          <a:stretch/>
        </p:blipFill>
        <p:spPr>
          <a:xfrm>
            <a:off x="304920" y="1523880"/>
            <a:ext cx="4114800" cy="4610160"/>
          </a:xfrm>
          <a:prstGeom prst="rect">
            <a:avLst/>
          </a:prstGeom>
          <a:ln w="0">
            <a:noFill/>
          </a:ln>
        </p:spPr>
      </p:pic>
      <p:pic>
        <p:nvPicPr>
          <p:cNvPr id="601" name="内容占位符 23561" descr="瀑布2"/>
          <p:cNvPicPr/>
          <p:nvPr/>
        </p:nvPicPr>
        <p:blipFill>
          <a:blip r:embed="rId2"/>
          <a:stretch/>
        </p:blipFill>
        <p:spPr>
          <a:xfrm>
            <a:off x="4724280" y="1523880"/>
            <a:ext cx="3962520" cy="4648320"/>
          </a:xfrm>
          <a:prstGeom prst="rect">
            <a:avLst/>
          </a:prstGeom>
          <a:ln w="0">
            <a:noFill/>
          </a:ln>
        </p:spPr>
      </p:pic>
      <p:sp>
        <p:nvSpPr>
          <p:cNvPr id="602" name="文本框 23563"/>
          <p:cNvSpPr/>
          <p:nvPr/>
        </p:nvSpPr>
        <p:spPr>
          <a:xfrm>
            <a:off x="3124080" y="0"/>
            <a:ext cx="32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楷体_GB2312"/>
              </a:rPr>
              <a:t>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文本框 49153"/>
          <p:cNvSpPr/>
          <p:nvPr/>
        </p:nvSpPr>
        <p:spPr>
          <a:xfrm>
            <a:off x="2469960" y="1841400"/>
            <a:ext cx="4204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不识庐山真面目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只缘身在此山中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49154"/>
          <p:cNvSpPr/>
          <p:nvPr/>
        </p:nvSpPr>
        <p:spPr>
          <a:xfrm>
            <a:off x="4903920" y="8380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真实的全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组合 49155"/>
          <p:cNvGrpSpPr/>
          <p:nvPr/>
        </p:nvGrpSpPr>
        <p:grpSpPr>
          <a:xfrm>
            <a:off x="4572000" y="1523880"/>
            <a:ext cx="2362320" cy="1295280"/>
            <a:chOff x="4572000" y="1523880"/>
            <a:chExt cx="2362320" cy="1295280"/>
          </a:xfrm>
        </p:grpSpPr>
        <p:sp>
          <p:nvSpPr>
            <p:cNvPr id="606" name="上箭头 49156"/>
            <p:cNvSpPr/>
            <p:nvPr/>
          </p:nvSpPr>
          <p:spPr>
            <a:xfrm>
              <a:off x="5715000" y="1523880"/>
              <a:ext cx="228600" cy="533160"/>
            </a:xfrm>
            <a:prstGeom prst="upArrow">
              <a:avLst>
                <a:gd name="adj1" fmla="val 50000"/>
                <a:gd name="adj2" fmla="val 58296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49157"/>
            <p:cNvSpPr/>
            <p:nvPr/>
          </p:nvSpPr>
          <p:spPr>
            <a:xfrm>
              <a:off x="4572000" y="2819160"/>
              <a:ext cx="2362320" cy="0"/>
            </a:xfrm>
            <a:prstGeom prst="line">
              <a:avLst/>
            </a:prstGeom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文本框 49158"/>
          <p:cNvSpPr/>
          <p:nvPr/>
        </p:nvSpPr>
        <p:spPr>
          <a:xfrm>
            <a:off x="1927080" y="517356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49159"/>
          <p:cNvSpPr/>
          <p:nvPr/>
        </p:nvSpPr>
        <p:spPr>
          <a:xfrm>
            <a:off x="2165760" y="4946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内容占位符 24577" descr="bilongt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正面看，庐山山岭连绵起伏；从侧面看，则山峰耸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是从远处、近处、高处、低处看，庐山的外貌是各不相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所以不能认识庐山的真实面貌，是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处在这层峦叠嶂的庐山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53249"/>
          <p:cNvSpPr txBox="1"/>
          <p:nvPr/>
        </p:nvSpPr>
        <p:spPr>
          <a:xfrm>
            <a:off x="380880" y="22860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填空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13" name="矩形 53250"/>
          <p:cNvSpPr/>
          <p:nvPr/>
        </p:nvSpPr>
        <p:spPr>
          <a:xfrm>
            <a:off x="1219320" y="1633680"/>
            <a:ext cx="70102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看成岭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  <a:ea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成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  <a:ea typeface="华文新魏"/>
              </a:rPr>
              <a:t>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各不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  <a:ea typeface="华文新魏"/>
              </a:rPr>
              <a:t>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庐山真面目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只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  <a:ea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身在此山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53251"/>
          <p:cNvSpPr/>
          <p:nvPr/>
        </p:nvSpPr>
        <p:spPr>
          <a:xfrm>
            <a:off x="1357920" y="1600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53252"/>
          <p:cNvSpPr/>
          <p:nvPr/>
        </p:nvSpPr>
        <p:spPr>
          <a:xfrm>
            <a:off x="4177440" y="1600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53253"/>
          <p:cNvSpPr/>
          <p:nvPr/>
        </p:nvSpPr>
        <p:spPr>
          <a:xfrm>
            <a:off x="1769400" y="2895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远近高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53254"/>
          <p:cNvSpPr/>
          <p:nvPr/>
        </p:nvSpPr>
        <p:spPr>
          <a:xfrm>
            <a:off x="1615680" y="41148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不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53255"/>
          <p:cNvSpPr/>
          <p:nvPr/>
        </p:nvSpPr>
        <p:spPr>
          <a:xfrm>
            <a:off x="2088360" y="53341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图片 58371" descr="p_large_6v7z_6db4000206062d11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20" name="文本框 58372"/>
          <p:cNvSpPr/>
          <p:nvPr/>
        </p:nvSpPr>
        <p:spPr>
          <a:xfrm>
            <a:off x="89856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58373"/>
          <p:cNvSpPr/>
          <p:nvPr/>
        </p:nvSpPr>
        <p:spPr>
          <a:xfrm>
            <a:off x="1997280" y="2689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、二句告诉我们什么道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58374"/>
          <p:cNvSpPr/>
          <p:nvPr/>
        </p:nvSpPr>
        <p:spPr>
          <a:xfrm>
            <a:off x="1050840" y="314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58375"/>
          <p:cNvSpPr/>
          <p:nvPr/>
        </p:nvSpPr>
        <p:spPr>
          <a:xfrm>
            <a:off x="4043880" y="3046320"/>
            <a:ext cx="7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的角度不同，观察到的景物就不一样。我们要学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多个角度看事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矩形 29700"/>
          <p:cNvSpPr txBox="1"/>
          <p:nvPr/>
        </p:nvSpPr>
        <p:spPr>
          <a:xfrm>
            <a:off x="1905120" y="1676520"/>
            <a:ext cx="3657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泰山</a:t>
            </a:r>
            <a:endParaRPr b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文本框 7171"/>
          <p:cNvSpPr/>
          <p:nvPr/>
        </p:nvSpPr>
        <p:spPr>
          <a:xfrm>
            <a:off x="2819520" y="0"/>
            <a:ext cx="6324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宋体"/>
              </a:rPr>
              <a:t>苏轼，字子瞻，号东坡居士，北宋著名文学家、书画家。他的诗、文、书、画都很专精，是“唐宋八大家”之一。他在诗、词散文的创作上都有很大的成就，对词的发展作出了贡献，著有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宋体"/>
              </a:rPr>
              <a:t>东坡全集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7172" descr="苏轼"/>
          <p:cNvPicPr/>
          <p:nvPr/>
        </p:nvPicPr>
        <p:blipFill>
          <a:blip r:embed="rId1"/>
          <a:stretch/>
        </p:blipFill>
        <p:spPr>
          <a:xfrm>
            <a:off x="0" y="1143000"/>
            <a:ext cx="28051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图片 32771" descr="泰山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文本框 34819"/>
          <p:cNvSpPr/>
          <p:nvPr/>
        </p:nvSpPr>
        <p:spPr>
          <a:xfrm>
            <a:off x="0" y="990720"/>
            <a:ext cx="89154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宋体"/>
              </a:rPr>
              <a:t>以上五幅关于泰山的不同角度的图片 ，是不是一样？有什么不同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这一只钢笔从不同的角度看有何不同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图片 38918" descr="钢笔1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464832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38919" descr="钢笔3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文本框 59396"/>
          <p:cNvSpPr/>
          <p:nvPr/>
        </p:nvSpPr>
        <p:spPr>
          <a:xfrm>
            <a:off x="4122720" y="1295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、四句告诉我们什么道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59397"/>
          <p:cNvSpPr/>
          <p:nvPr/>
        </p:nvSpPr>
        <p:spPr>
          <a:xfrm>
            <a:off x="4519080" y="2793960"/>
            <a:ext cx="5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两句诗告诉我们，要全面、客观、正确地看待事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不能只看到事物的某一个方面。还要亲自去观察、体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文本框 11265"/>
          <p:cNvSpPr/>
          <p:nvPr/>
        </p:nvSpPr>
        <p:spPr>
          <a:xfrm>
            <a:off x="930240" y="1465200"/>
            <a:ext cx="653724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题西林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横看  成岭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侧  成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远近  高低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各  不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不识  庐山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真 面 目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只缘  身在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此 山 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11266"/>
          <p:cNvSpPr/>
          <p:nvPr/>
        </p:nvSpPr>
        <p:spPr>
          <a:xfrm>
            <a:off x="2514600" y="323064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接连接符 11267"/>
          <p:cNvSpPr/>
          <p:nvPr/>
        </p:nvSpPr>
        <p:spPr>
          <a:xfrm>
            <a:off x="4952880" y="323064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椭圆 11268"/>
          <p:cNvSpPr/>
          <p:nvPr/>
        </p:nvSpPr>
        <p:spPr>
          <a:xfrm>
            <a:off x="1295280" y="3535200"/>
            <a:ext cx="7488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椭圆 11269"/>
          <p:cNvSpPr/>
          <p:nvPr/>
        </p:nvSpPr>
        <p:spPr>
          <a:xfrm>
            <a:off x="3733920" y="3535200"/>
            <a:ext cx="7452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椭圆 11270"/>
          <p:cNvSpPr/>
          <p:nvPr/>
        </p:nvSpPr>
        <p:spPr>
          <a:xfrm>
            <a:off x="4573440" y="3535200"/>
            <a:ext cx="7488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椭圆 11271"/>
          <p:cNvSpPr/>
          <p:nvPr/>
        </p:nvSpPr>
        <p:spPr>
          <a:xfrm>
            <a:off x="6324480" y="3535200"/>
            <a:ext cx="7488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11272"/>
          <p:cNvSpPr/>
          <p:nvPr/>
        </p:nvSpPr>
        <p:spPr>
          <a:xfrm>
            <a:off x="7734600" y="462456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73a9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2373a9"/>
                </a:solidFill>
                <a:latin typeface="Times New Roman"/>
                <a:ea typeface="楷体_GB2312"/>
              </a:rPr>
              <a:t>轻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11273"/>
          <p:cNvSpPr/>
          <p:nvPr/>
        </p:nvSpPr>
        <p:spPr>
          <a:xfrm>
            <a:off x="7718760" y="536400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73a9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2373a9"/>
                </a:solidFill>
                <a:latin typeface="Times New Roman"/>
                <a:ea typeface="楷体_GB2312"/>
              </a:rPr>
              <a:t>强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直接连接符 11274"/>
          <p:cNvSpPr/>
          <p:nvPr/>
        </p:nvSpPr>
        <p:spPr>
          <a:xfrm flipV="1">
            <a:off x="4114800" y="3077640"/>
            <a:ext cx="152280" cy="30492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1275"/>
          <p:cNvGrpSpPr/>
          <p:nvPr/>
        </p:nvGrpSpPr>
        <p:grpSpPr>
          <a:xfrm>
            <a:off x="2209680" y="3916080"/>
            <a:ext cx="4114800" cy="2165760"/>
            <a:chOff x="2209680" y="3916080"/>
            <a:chExt cx="4114800" cy="2165760"/>
          </a:xfrm>
        </p:grpSpPr>
        <p:sp>
          <p:nvSpPr>
            <p:cNvPr id="645" name="直接连接符 11276"/>
            <p:cNvSpPr/>
            <p:nvPr/>
          </p:nvSpPr>
          <p:spPr>
            <a:xfrm>
              <a:off x="2438280" y="4068720"/>
              <a:ext cx="38124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直接连接符 11277"/>
            <p:cNvSpPr/>
            <p:nvPr/>
          </p:nvSpPr>
          <p:spPr>
            <a:xfrm>
              <a:off x="2438280" y="4907160"/>
              <a:ext cx="38124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直接连接符 11278"/>
            <p:cNvSpPr/>
            <p:nvPr/>
          </p:nvSpPr>
          <p:spPr>
            <a:xfrm>
              <a:off x="2438280" y="5668920"/>
              <a:ext cx="38124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直接连接符 11279"/>
            <p:cNvSpPr/>
            <p:nvPr/>
          </p:nvSpPr>
          <p:spPr>
            <a:xfrm>
              <a:off x="4952880" y="4068720"/>
              <a:ext cx="38124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椭圆 11280"/>
            <p:cNvSpPr/>
            <p:nvPr/>
          </p:nvSpPr>
          <p:spPr>
            <a:xfrm>
              <a:off x="4572000" y="4297320"/>
              <a:ext cx="7452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椭圆 11281"/>
            <p:cNvSpPr/>
            <p:nvPr/>
          </p:nvSpPr>
          <p:spPr>
            <a:xfrm>
              <a:off x="4724280" y="5180040"/>
              <a:ext cx="7488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椭圆 11282"/>
            <p:cNvSpPr/>
            <p:nvPr/>
          </p:nvSpPr>
          <p:spPr>
            <a:xfrm>
              <a:off x="2209680" y="5973840"/>
              <a:ext cx="7488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1283"/>
            <p:cNvSpPr/>
            <p:nvPr/>
          </p:nvSpPr>
          <p:spPr>
            <a:xfrm>
              <a:off x="4572000" y="5942160"/>
              <a:ext cx="7452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11284"/>
            <p:cNvSpPr/>
            <p:nvPr/>
          </p:nvSpPr>
          <p:spPr>
            <a:xfrm>
              <a:off x="5410080" y="5973840"/>
              <a:ext cx="7488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椭圆 11285"/>
            <p:cNvSpPr/>
            <p:nvPr/>
          </p:nvSpPr>
          <p:spPr>
            <a:xfrm>
              <a:off x="6249960" y="5973840"/>
              <a:ext cx="7452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直接连接符 11286"/>
            <p:cNvSpPr/>
            <p:nvPr/>
          </p:nvSpPr>
          <p:spPr>
            <a:xfrm flipV="1">
              <a:off x="4114800" y="3916080"/>
              <a:ext cx="152280" cy="3049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接连接符 11287"/>
            <p:cNvSpPr/>
            <p:nvPr/>
          </p:nvSpPr>
          <p:spPr>
            <a:xfrm flipV="1">
              <a:off x="4114800" y="4754160"/>
              <a:ext cx="152280" cy="3049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直接连接符 11288"/>
            <p:cNvSpPr/>
            <p:nvPr/>
          </p:nvSpPr>
          <p:spPr>
            <a:xfrm flipV="1">
              <a:off x="4114800" y="5592960"/>
              <a:ext cx="152280" cy="3045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矩形 11289"/>
          <p:cNvSpPr txBox="1"/>
          <p:nvPr/>
        </p:nvSpPr>
        <p:spPr>
          <a:xfrm>
            <a:off x="380880" y="228600"/>
            <a:ext cx="304812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华文隶书"/>
              </a:rPr>
              <a:t>朗读指导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华文隶书"/>
              <a:ea typeface="华文隶书"/>
            </a:endParaRPr>
          </a:p>
        </p:txBody>
      </p:sp>
    </p:spTree>
  </p:cSld>
  <p:transition spd="slow"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43012" descr="海鸥"/>
          <p:cNvPicPr/>
          <p:nvPr/>
        </p:nvPicPr>
        <p:blipFill>
          <a:blip r:embed="rId1"/>
          <a:stretch/>
        </p:blipFill>
        <p:spPr>
          <a:xfrm>
            <a:off x="609480" y="990720"/>
            <a:ext cx="2667240" cy="1280880"/>
          </a:xfrm>
          <a:prstGeom prst="rect">
            <a:avLst/>
          </a:prstGeom>
          <a:ln w="0">
            <a:noFill/>
          </a:ln>
        </p:spPr>
      </p:pic>
      <p:pic>
        <p:nvPicPr>
          <p:cNvPr id="660" name="图片 43013" descr="蝴蝶1"/>
          <p:cNvPicPr/>
          <p:nvPr/>
        </p:nvPicPr>
        <p:blipFill>
          <a:blip r:embed="rId2"/>
          <a:stretch/>
        </p:blipFill>
        <p:spPr>
          <a:xfrm>
            <a:off x="3429000" y="1905120"/>
            <a:ext cx="1219320" cy="1147680"/>
          </a:xfrm>
          <a:prstGeom prst="rect">
            <a:avLst/>
          </a:prstGeom>
          <a:ln w="0">
            <a:noFill/>
          </a:ln>
        </p:spPr>
      </p:pic>
      <p:sp>
        <p:nvSpPr>
          <p:cNvPr id="661" name="矩形 43015"/>
          <p:cNvSpPr txBox="1"/>
          <p:nvPr/>
        </p:nvSpPr>
        <p:spPr>
          <a:xfrm>
            <a:off x="5410080" y="3733920"/>
            <a:ext cx="31244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再见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62" name="矩形 43016"/>
          <p:cNvSpPr/>
          <p:nvPr/>
        </p:nvSpPr>
        <p:spPr>
          <a:xfrm>
            <a:off x="1447920" y="608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8196" descr="西林寺1"/>
          <p:cNvPicPr/>
          <p:nvPr/>
        </p:nvPicPr>
        <p:blipFill>
          <a:blip r:embed="rId1"/>
          <a:stretch/>
        </p:blipFill>
        <p:spPr>
          <a:xfrm>
            <a:off x="1143000" y="45720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553" name="文本框 8197"/>
          <p:cNvSpPr/>
          <p:nvPr/>
        </p:nvSpPr>
        <p:spPr>
          <a:xfrm>
            <a:off x="2971800" y="585144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西  林  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10241"/>
          <p:cNvSpPr/>
          <p:nvPr/>
        </p:nvSpPr>
        <p:spPr>
          <a:xfrm>
            <a:off x="1752480" y="152280"/>
            <a:ext cx="6275520" cy="69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题西林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       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横看成岭侧成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远近高低各不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不识庐山真面目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只缘身在此山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文本框 52225"/>
          <p:cNvSpPr/>
          <p:nvPr/>
        </p:nvSpPr>
        <p:spPr>
          <a:xfrm>
            <a:off x="3145680" y="685800"/>
            <a:ext cx="18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比一比，再组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52226"/>
          <p:cNvSpPr/>
          <p:nvPr/>
        </p:nvSpPr>
        <p:spPr>
          <a:xfrm>
            <a:off x="447480" y="213372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缘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52227"/>
          <p:cNvSpPr/>
          <p:nvPr/>
        </p:nvSpPr>
        <p:spPr>
          <a:xfrm>
            <a:off x="523800" y="294480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绿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52228"/>
          <p:cNvSpPr/>
          <p:nvPr/>
        </p:nvSpPr>
        <p:spPr>
          <a:xfrm>
            <a:off x="4829040" y="221292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隐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52229"/>
          <p:cNvSpPr/>
          <p:nvPr/>
        </p:nvSpPr>
        <p:spPr>
          <a:xfrm>
            <a:off x="4797360" y="297180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稳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52230"/>
          <p:cNvSpPr/>
          <p:nvPr/>
        </p:nvSpPr>
        <p:spPr>
          <a:xfrm>
            <a:off x="561960" y="411480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侧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52231"/>
          <p:cNvSpPr/>
          <p:nvPr/>
        </p:nvSpPr>
        <p:spPr>
          <a:xfrm>
            <a:off x="530280" y="48736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测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52232"/>
          <p:cNvSpPr/>
          <p:nvPr/>
        </p:nvSpPr>
        <p:spPr>
          <a:xfrm>
            <a:off x="4790880" y="411480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峰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52233"/>
          <p:cNvSpPr/>
          <p:nvPr/>
        </p:nvSpPr>
        <p:spPr>
          <a:xfrm>
            <a:off x="4790880" y="487692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锋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文本框 47105"/>
          <p:cNvSpPr/>
          <p:nvPr/>
        </p:nvSpPr>
        <p:spPr>
          <a:xfrm>
            <a:off x="3384360" y="1909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题西林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47106"/>
          <p:cNvSpPr/>
          <p:nvPr/>
        </p:nvSpPr>
        <p:spPr>
          <a:xfrm>
            <a:off x="5376600" y="6858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墙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47107"/>
          <p:cNvGrpSpPr/>
          <p:nvPr/>
        </p:nvGrpSpPr>
        <p:grpSpPr>
          <a:xfrm>
            <a:off x="5486400" y="1600200"/>
            <a:ext cx="838080" cy="1359000"/>
            <a:chOff x="5486400" y="1600200"/>
            <a:chExt cx="838080" cy="1359000"/>
          </a:xfrm>
        </p:grpSpPr>
        <p:sp>
          <p:nvSpPr>
            <p:cNvPr id="567" name="上箭头 47108"/>
            <p:cNvSpPr/>
            <p:nvPr/>
          </p:nvSpPr>
          <p:spPr>
            <a:xfrm>
              <a:off x="5867280" y="1600200"/>
              <a:ext cx="228600" cy="533520"/>
            </a:xfrm>
            <a:prstGeom prst="upArrow">
              <a:avLst>
                <a:gd name="adj1" fmla="val 50000"/>
                <a:gd name="adj2" fmla="val 58335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47109"/>
            <p:cNvSpPr/>
            <p:nvPr/>
          </p:nvSpPr>
          <p:spPr>
            <a:xfrm>
              <a:off x="5486400" y="2959200"/>
              <a:ext cx="838080" cy="0"/>
            </a:xfrm>
            <a:prstGeom prst="line">
              <a:avLst/>
            </a:prstGeom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文本框 47112"/>
          <p:cNvSpPr/>
          <p:nvPr/>
        </p:nvSpPr>
        <p:spPr>
          <a:xfrm>
            <a:off x="2212920" y="2271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d8ec"/>
                </a:solidFill>
                <a:latin typeface="Arial"/>
                <a:ea typeface="黑体"/>
              </a:rPr>
              <a:t>疏通字词，理解诗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47113"/>
          <p:cNvSpPr/>
          <p:nvPr/>
        </p:nvSpPr>
        <p:spPr>
          <a:xfrm>
            <a:off x="3379680" y="779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书写题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文本框 48129"/>
          <p:cNvSpPr/>
          <p:nvPr/>
        </p:nvSpPr>
        <p:spPr>
          <a:xfrm>
            <a:off x="2469960" y="2908440"/>
            <a:ext cx="4204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横看成岭侧成峰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远近高低各不同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48130"/>
          <p:cNvSpPr/>
          <p:nvPr/>
        </p:nvSpPr>
        <p:spPr>
          <a:xfrm>
            <a:off x="2460600" y="19177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连绵起伏的山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48131"/>
          <p:cNvSpPr/>
          <p:nvPr/>
        </p:nvSpPr>
        <p:spPr>
          <a:xfrm>
            <a:off x="5203800" y="11430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巍然耸立的险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组合 48132"/>
          <p:cNvGrpSpPr/>
          <p:nvPr/>
        </p:nvGrpSpPr>
        <p:grpSpPr>
          <a:xfrm>
            <a:off x="3733920" y="2527200"/>
            <a:ext cx="838080" cy="1359000"/>
            <a:chOff x="3733920" y="2527200"/>
            <a:chExt cx="838080" cy="1359000"/>
          </a:xfrm>
        </p:grpSpPr>
        <p:sp>
          <p:nvSpPr>
            <p:cNvPr id="575" name="上箭头 48133"/>
            <p:cNvSpPr/>
            <p:nvPr/>
          </p:nvSpPr>
          <p:spPr>
            <a:xfrm>
              <a:off x="4114800" y="2527200"/>
              <a:ext cx="228600" cy="533520"/>
            </a:xfrm>
            <a:prstGeom prst="upArrow">
              <a:avLst>
                <a:gd name="adj1" fmla="val 50000"/>
                <a:gd name="adj2" fmla="val 58335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直接连接符 48134"/>
            <p:cNvSpPr/>
            <p:nvPr/>
          </p:nvSpPr>
          <p:spPr>
            <a:xfrm>
              <a:off x="3733920" y="3886200"/>
              <a:ext cx="838080" cy="0"/>
            </a:xfrm>
            <a:prstGeom prst="line">
              <a:avLst/>
            </a:prstGeom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组合 48135"/>
          <p:cNvGrpSpPr/>
          <p:nvPr/>
        </p:nvGrpSpPr>
        <p:grpSpPr>
          <a:xfrm>
            <a:off x="6324480" y="1828800"/>
            <a:ext cx="838440" cy="2057400"/>
            <a:chOff x="6324480" y="1828800"/>
            <a:chExt cx="838440" cy="2057400"/>
          </a:xfrm>
        </p:grpSpPr>
        <p:sp>
          <p:nvSpPr>
            <p:cNvPr id="578" name="上箭头 48136"/>
            <p:cNvSpPr/>
            <p:nvPr/>
          </p:nvSpPr>
          <p:spPr>
            <a:xfrm>
              <a:off x="6648480" y="1828800"/>
              <a:ext cx="209520" cy="1219320"/>
            </a:xfrm>
            <a:prstGeom prst="upArrow">
              <a:avLst>
                <a:gd name="adj1" fmla="val 50000"/>
                <a:gd name="adj2" fmla="val 145463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直接连接符 48137"/>
            <p:cNvSpPr/>
            <p:nvPr/>
          </p:nvSpPr>
          <p:spPr>
            <a:xfrm>
              <a:off x="6324480" y="3886200"/>
              <a:ext cx="838440" cy="0"/>
            </a:xfrm>
            <a:prstGeom prst="line">
              <a:avLst/>
            </a:prstGeom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600" spc="-1" strike="noStrike">
                <a:solidFill>
                  <a:srgbClr val="ff3300"/>
                </a:solidFill>
                <a:latin typeface="Arial"/>
              </a:rPr>
              <a:t>岭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13327" descr="岭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510552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13328" descr="山岭3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  <a:ea typeface="楷体_GB2312"/>
              </a:rPr>
              <a:t>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图片 15366" descr="山峰2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15367" descr="山峰3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3:32:03Z</dcterms:created>
  <dc:creator/>
  <dc:description/>
  <dc:language>en-US</dc:language>
  <cp:lastModifiedBy>万润仪器贸易公司</cp:lastModifiedBy>
  <dcterms:modified xsi:type="dcterms:W3CDTF">2020-08-24T03:32:08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